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0E9-B27B-4B0F-A30C-54497408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C70-E810-4C37-AF59-002DE31E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514-2074-4E11-91EA-AD8E4DC5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8F1-86D4-469D-BA41-E59890C1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7D3-D2BB-43C5-93B3-D424DE56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7BD-65C5-4D80-B3AF-0F4D0384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90E-74E6-43D5-A986-2A2B7AD2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4BD-7A31-4450-B09A-D893BAC1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0F7-2389-4E61-9CEB-4354AC2A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2CA-38DA-48EE-9B8D-00DAC5EB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C23-E677-4881-B234-E01E4DEE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A8B-CFB2-485C-A81D-1C407853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D145-7BDE-40AA-9D05-C86D6A572FE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1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4.1 REVI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214200" y="1582560"/>
            <a:ext cx="8286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ut the verb in the participle form indicated (all nom. mas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γραφω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οιε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ρχομαι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φιλε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λογιζομαι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ροσευχομαι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pl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700600" y="231300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ψ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700600" y="281952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ουντ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5715000" y="331308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χομεν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5715000" y="3830760"/>
            <a:ext cx="278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ησαντ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5715000" y="435780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ισαμεν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5715000" y="485784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σευχομενο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  <a:ea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42920" y="1357200"/>
            <a:ext cx="350028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arse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βαλλοντ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φωνησα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ρχομεναι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εμψα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ιωξαντ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δοντω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πιζουσα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γειραντα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δεχομενο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643120" y="205740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sent Active Masculine Plural Nomin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643120" y="251136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Masculine Singular Nomin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643120" y="294624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sent Deponent Feminine Plural Dati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643120" y="3387600"/>
            <a:ext cx="64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Neuter Singular Nominativ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ccus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643120" y="383076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Mascul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Neuter Singular D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643120" y="4286160"/>
            <a:ext cx="60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Mascul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Neuter Genitive Pl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2643120" y="4726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sent Active Feminine Singular Accus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643120" y="518472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orist Active Masculine Plural Accus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2643120" y="5626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sent Deponent Masculine Plural Nomin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3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14200" y="1508040"/>
            <a:ext cx="57866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νοιγω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Fem. Acc.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οιεω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Masc. Nom.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ηρυσσω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Neut. Gen.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ἁπτομαι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sent Masc. Dat. 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ρχομαι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Neut. Nom.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ιστευω,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orist Fem. Acc. P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6215040" y="231300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γουσ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215040" y="28162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ησ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215040" y="33130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ξαντω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215040" y="383076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πτομεν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215040" y="434340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θοντ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15040" y="48340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σασ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4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14200" y="1214280"/>
            <a:ext cx="54295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θων ἐθεραπευσεν αὐτ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ναβαινων εἰδεν το πνευμ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φυγοντες ἠλθον εἰς ἱερ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βαπτιζεν τους πονηρου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ετανοησαντα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πομεν τοις ἐρχομενοις τεκνοι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βλεψατε τους γραμματει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σελθοντας εἰς το ἱερ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429080" y="19699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he had come, he healed h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429080" y="246528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ile he was going up, he saw the spir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429080" y="338760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they fled, they went into a te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429080" y="388764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was baptizing the wicked people who had repen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429080" y="480708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e spoke to the children as they c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4429080" y="528336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id you see the scribes who had gone into the temp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98328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5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4280" y="1214280"/>
            <a:ext cx="54295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ζητω την μελλουσαν βασιλεια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αγαγουσα εἰδεν τον πατερα αὐτη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λαλουντ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esus greeted the approaching crow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she saw she believ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Pharisee taught the Jews who we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isten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the king heard this he sent his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ldiers to find the chi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729320" y="131292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am seeking the coming kingd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714920" y="180324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fter she departed she saw her father spea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745160" y="2703600"/>
            <a:ext cx="42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Ἰησους ἠσπασατο τον προσερχομενον ὀχλ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759200" y="36259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δουσα ἐπιστευσε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4772160" y="4114800"/>
            <a:ext cx="42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Φαρισαιος ἐδιδαξεν τους ἀκουοντας Ἰουδαιου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4729320" y="5060880"/>
            <a:ext cx="46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κουσας τουτο ὁ βασιλευς ἀπεστειλεν (ἐπεμψεν) τους στρατιωτας αὐτου εὑρειν το  τεκνον (παιδιο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4:Practice 6/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4.4 OTHER USES OF PARTICIP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42920" y="996840"/>
            <a:ext cx="542916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φιλειτε τους μισουντας ὑμα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Μωϋσης ἁγιος ὠν ἐλεγεν τῳ θε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θελω εἰσελθων εἰς τη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συναγωγη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κουσαι του ῥαββ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λεγον ἀλληλοις περι των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γενομενω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saw the ones carrying the sick ma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epart and preach the gosp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786200" y="141444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ove those who hate y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786200" y="187812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ecause Moses was holy he used to speak to G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786200" y="281628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want to go into the synagogue and listen to the Rabb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786200" y="375912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were speaking to each other about what had happen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786200" y="467352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δον τους φεροντας τον ἀσθεν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786200" y="517356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ing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αγαγων κηρυξον το εὐαγγελι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.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l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ὑπαγαγοντες κηρυξατε το εὐαγγελιο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6:38:41Z</dcterms:created>
  <dc:creator>Sarah</dc:creator>
  <dc:description/>
  <dc:language>en-US</dc:language>
  <cp:lastModifiedBy>Sarah</cp:lastModifiedBy>
  <dcterms:modified xsi:type="dcterms:W3CDTF">2008-09-30T20:26:46Z</dcterms:modified>
  <cp:revision>22</cp:revision>
  <dc:subject/>
  <dc:title>Slide 1</dc:title>
</cp:coreProperties>
</file>